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CD9-C053-4172-81CB-EDD7F4F9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7C3-1276-449B-BECF-6D99C692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786-3C2B-47D1-9D58-CF3A0340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035-FF7D-47AC-940C-F223E033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BB21-A60B-4290-BA36-490D84D7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DA1D-FB12-4D0F-BEE1-CD98D1D5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FB09-70F6-41E6-B396-8CDEA8C1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4D6B-35E9-4341-B67B-C963E7EC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DA8E-AB95-472B-BF64-B7ABA3ED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6EE5-8425-4562-8217-895B17D3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F8DC-2DD6-4EEB-BFD9-5E8E1E48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1B8-151C-46F3-8FB5-218E08B6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8D66-1B6B-4147-8CAE-F10A3BD7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DBD7-7898-4DC7-A306-657F808B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7D21-5CC5-4C0F-9C21-4FED60C6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94FB-0DF6-4296-87F9-88ED08DC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5D85-105A-4F61-8E72-B830EB2B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774-5CFE-411D-B357-B2A1B36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D615-BA45-4EE9-AC59-C8C56CDD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F59-B54E-4975-A925-0A7D3970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1C5-5FAA-458A-8D6D-E43396EE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2D53-3F6F-4955-8D67-BEFD44CB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08A-FC9D-439C-9B2F-B38057B8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E8A-166F-46D6-963B-5A94D74A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F482-1B90-423F-83F2-5FC93D9B7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CE3F-E1F2-4307-92AE-80EB6886E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ha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124080" y="380880"/>
            <a:ext cx="2743200" cy="1847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590920" y="42670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:Dana He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d you know whales are mamma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743200" y="2197080"/>
            <a:ext cx="39625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les eat fish, seal, squid and dolphin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eat four times a day. Some times they kill other wh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429000" y="3809880"/>
            <a:ext cx="2362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y do not breath with gill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whales are under water they do not breath with gills. They breath with a blow ho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31240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les are very large animal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20 feet long. They are bigger than 1 eleph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675240" y="3081240"/>
            <a:ext cx="37922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y are very fast animal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as fast as a shark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n swim up to 30 miles per ho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2438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I hope you had fun learning about whales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35240" y="868320"/>
            <a:ext cx="46720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0T20:20:21Z</dcterms:modified>
  <cp:revision>5</cp:revision>
  <dc:subject/>
  <dc:title>Animal Name</dc:title>
</cp:coreProperties>
</file>